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5CE-E6FF-4643-B11A-0293747D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DC7-8987-48A7-BD43-6672E914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43F-706F-40D1-A5BB-C9413EBD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4B9-81F3-4213-8992-79AB5707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2E6-3E15-4B3C-93FF-76788CA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C48-9BDA-415B-B478-2F03AACC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DE2-C077-47C0-8EAE-47AC87D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976-2D8C-46BB-8615-23980EF7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6C1-A65B-4D0A-9D99-964C3E4A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B44-08DA-4E48-8F19-4F7D62BF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0F0-4A45-4871-9B05-966D8F7F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553-EDD1-48EC-819F-49FE674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967D-34E9-4B36-94FF-1BC7042CC73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566" r="0" b="14803"/>
          <a:stretch/>
        </p:blipFill>
        <p:spPr>
          <a:xfrm>
            <a:off x="0" y="3068640"/>
            <a:ext cx="442764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29050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427640" y="6308640"/>
            <a:ext cx="46209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By: Amy Chen, Bridget Pany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60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Genetically Modified Plant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ornl.gov/sci/techresources/Human_Genome/elsi/gmfood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greenfacts.org/en/gmo/2-genetically-modified-crops/1-agricultural-biotechnology.htm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recipes.howstuffworks.com/question14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trendhunter.com/trends/blue-rose-is-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Whitman, Deborah. Genetically Modified Foods: Harmful or Helpful. April 2000. http://www.csa.com/discoveryguides/gmfood/overview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akes changes to the hereditary material of a living organ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Biotechnologies are used to develop plants resistant to pests, diseases, drought, heat, or cold, and improve the nutritional content of plant foo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68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2006, a total of 252 million acres of transgenic crops were planted in 22 countries by 10.3 million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rbicide- and insect-resistant soybeans, corn, and 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weet potato resistant to a virus that could decimate most of the African harv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ice with increased iron and vitamins that may alleviate chronic malnutrition in Asia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ety of plants able to survive weather extr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6720" cy="30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0" b="10810"/>
          <a:stretch/>
        </p:blipFill>
        <p:spPr>
          <a:xfrm>
            <a:off x="5076720" y="3429000"/>
            <a:ext cx="31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Examples of GM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, made by Monsanto (agriculture company)- a herbicide that kills any plant that it t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“Roundup Ready”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p ignores Roundup, but weeds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 Ready seeds reduce production costs and increase yield, so food becomes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ientists have inserted genes that produce a natural insecticide into cor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2664000" cy="177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79064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rebuchet MS"/>
              </a:rPr>
              <a:t>Blue 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A Japanese company, Sun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Delphinidin (produces blue pig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Growing the rose experimentally in Australia and the United States to get approval for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3670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gency FB"/>
                <a:ea typeface="宋体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9560" y="1773360"/>
            <a:ext cx="57708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Restriction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Ligase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Gene vecto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Donor gen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976320"/>
          <a:ext cx="1133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76320"/>
                    <a:ext cx="1133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71640" y="1336680"/>
          <a:ext cx="174312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336680"/>
                    <a:ext cx="1743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12000" y="1407960"/>
          <a:ext cx="149544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07960"/>
                    <a:ext cx="149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20000" y="3568680"/>
          <a:ext cx="177156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3568680"/>
                    <a:ext cx="1771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95640" y="4000680"/>
          <a:ext cx="1495440" cy="19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000680"/>
                    <a:ext cx="1495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992320"/>
          <a:ext cx="2682720" cy="367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992320"/>
                    <a:ext cx="268272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403280" y="1768320"/>
          <a:ext cx="158436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68320"/>
                    <a:ext cx="1584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84720" y="1697040"/>
          <a:ext cx="158436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1697040"/>
                    <a:ext cx="158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236000" y="1841400"/>
          <a:ext cx="1736640" cy="168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1841400"/>
                    <a:ext cx="17366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580000" y="4505400"/>
          <a:ext cx="165744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0000" y="4505400"/>
                    <a:ext cx="1657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2627280" y="4361040"/>
            <a:ext cx="129528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8720" y="18900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Diagram of Proce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gency FB"/>
              </a:rPr>
              <a:t>Benefits</a:t>
            </a:r>
            <a:r>
              <a:rPr b="1" lang="zh-TW" sz="6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Preventing malnutrition/dis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Eliminating Pestic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Enviro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"Friendly" herbicides and insectici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onservation of soil, water, and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Better natural waste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Socie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Increased food security for growing popul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Risks and Controvers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Safet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uman health impact: allergens, transfer of antibiotic resistance markers, unknown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Ethics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iolation of nature’s organis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ampering with nature by mixing genes among spe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bjections to consuming animal genes in pl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4:52:09Z</dcterms:created>
  <dc:creator>ASUS</dc:creator>
  <dc:description/>
  <dc:language>en-US</dc:language>
  <cp:lastModifiedBy>HP</cp:lastModifiedBy>
  <dcterms:modified xsi:type="dcterms:W3CDTF">2008-03-05T12:41:10Z</dcterms:modified>
  <cp:revision>38</cp:revision>
  <dc:subject/>
  <dc:title>Genetically Modified Plants</dc:title>
</cp:coreProperties>
</file>